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CBCF9-1FE3-4EEF-98B5-9D17948A8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B7EF-0716-4751-B5AD-C588021E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27007-5DB8-4587-822A-3EFE04B61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705D-4E24-43D5-A745-898704FA7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EE671-0110-4188-8D20-ECBDBB78A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812EE-911F-4BF0-87A6-37B1731E7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EECF6-FE70-4706-9CF0-92BB7C3FA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0F455-AB1E-4305-9B39-583F98A41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B74FC-3200-49D3-87E9-3EE0A7DFC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608B9-EB60-467D-A7F8-5563B2675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9D143-728B-4A29-A538-08E73A140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4A46-BFEE-4E39-A693-D49177EA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C4781-A4AC-4999-AEC5-89A3355C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A91B-3F0C-4DF7-A753-D43D52163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0F311-741C-403C-B8E7-75DF9EBB1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60A03-0BFF-4FB0-B21D-8B06046CA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0CDC6-0BE3-456E-8164-2758ABF82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33A267-2B5E-4E0E-A459-1B0C7B0E39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26942-831B-42A6-93FF-7BC4F42A9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EF44D-AAAA-4835-8454-9F9047583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7E4F6-FE53-4B47-9AA1-0EC3AC354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F4A9C-FB65-47C9-9E7A-F2225084E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1A68C-07A4-4C83-991E-D8C231030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CAC1C-8AA1-4561-A84E-A24AE5997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5C619-1EB1-498D-83D0-4CB89C458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22EBA-FD09-4655-91EA-655B25BC0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0214A-311D-4A83-89FE-27DBA474B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E0FA9-3A8E-428B-A52F-CA01AE140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0F021-75DB-4362-9716-6DE743117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2EDFF1-EB04-4C81-8E13-B06C6BE0F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0A38C4-2B61-4497-BDE5-245F5A4D0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41BF6-BE5E-4DB7-A9D0-483C1B1B1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22187-86FD-4436-9196-0668A88A5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156C-1BAF-4836-AFA2-02CBBAB5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337D5-268B-4FD2-B907-8674C087A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F4646-1971-4587-BBC2-835DBE0D1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D8069-9313-4B6C-99BD-72F441B9C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17348-8D66-48E1-BA7A-C42C7D85C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2F133-2F73-4993-ADEE-EE9D7FEDA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6CC4F-8E2B-45EE-82E2-48301AE35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060529-E8B9-433E-B934-3BB9A13AB6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4E40E-895C-4A80-8B92-DBC098207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33C8B4-463F-4494-9B4C-C9EC334031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215A75-ACD7-4850-AAF4-7DDF45CBA4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C1356-6832-415B-B437-BAB2620A5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4AF10-D7BE-431A-AAE9-BBE46CCF8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CBA74D-F18F-462E-B486-C57EF2E11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A315B-FE11-43D5-9E5E-E26FF672F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2F449-0E50-420A-9E84-0C50E91B7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ED474-7E2A-4894-9F1C-75B18307B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5DE7A-FB22-4D73-9C78-2A427676B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7BD2A-5520-4FDD-B44C-E8A821520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5737E-D493-4360-8741-4C82AFA53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127AA-AED3-45FC-8C9E-4CCF76F49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66FC32-9137-45E8-B270-FE8556CA9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24B7-CD3B-47B5-8789-E246FCD1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65FE40-153C-4E5D-BF8F-C4B7A5092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ED2912-1CB7-4A9B-958E-6D3F66107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5E8D8A-4BE4-4E2D-A7FA-5397C992C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11482-BD39-4AA1-9D16-31F0618D7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73962-58B2-444E-AD7C-C7CA0A42D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09F79-8769-4C79-9D42-99412CCEF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5647E-73F6-4BDC-B479-087E82903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1925E-9DA9-4D9E-9174-853E33DE5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727A9-7FE9-4140-BF6A-A4242815D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2B87F-B39A-4089-AC54-C4D9A442C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9C2C-5BA3-4711-BA97-8D890114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3AE3C-29CC-432E-82F0-FFFA1FF46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532898-19CC-4B6E-8795-160ACEBBB9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F42F2-E631-4E4E-9C85-6199BF446B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EAA913-083E-43B7-BB73-2AE1B576ED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C75C11-E045-4C58-BE23-2CC5A914D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89301-A2FC-48FB-9788-0B107B0C2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705F3-1AA7-48BC-B43C-06BB83F4D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25DB9-E0AC-4F1F-B10E-4631AF1F8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3201A-DCEA-4578-A0A0-8533E545D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4653F-A3D2-4E48-8DFB-2228AC861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5EFC-8D99-451C-AC31-536F97E4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9D7A8-6397-4D1B-9FC9-899B4CC56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9F23F-45CE-4CBD-A360-F15139042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8E4A5-801D-43F1-B6A2-EC626A8E3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A285D1-7F3C-4F51-B9F7-FED0F5343F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799454-8C1E-4DCD-BF88-82F49D461F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A17B-A1F0-4D00-85FA-35F474BA4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C50C-C5BA-48B0-B8D8-4E17A0685BF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D9C5-F6C3-4F6A-8634-DBAFEA34123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FC36-580D-4458-B5BD-48C95F700C7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43D7-4CE9-4382-B044-F629A106259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EC54-852B-4781-8536-2D8F4F62052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8C06-0493-45F6-A9ED-D4EF7D27A59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C537-8AD0-4E36-A13D-2DBA9F0B111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p:cNvPicPr/>
          <p:nvPr/>
        </p:nvPicPr>
        <p:blipFill>
          <a:blip r:embed="rId1"/>
          <a:stretch/>
        </p:blipFill>
        <p:spPr>
          <a:xfrm>
            <a:off x="2362320" y="2590920"/>
            <a:ext cx="4733640" cy="3865320"/>
          </a:xfrm>
          <a:prstGeom prst="rect">
            <a:avLst/>
          </a:prstGeom>
          <a:ln w="0">
            <a:noFill/>
          </a:ln>
        </p:spPr>
      </p:pic>
      <p:pic>
        <p:nvPicPr>
          <p:cNvPr id="398" name="Rectangle 5" descr=""/>
          <p:cNvPicPr/>
          <p:nvPr/>
        </p:nvPicPr>
        <p:blipFill>
          <a:blip r:embed="rId2"/>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4" name="Picture 4" descr=""/>
          <p:cNvPicPr/>
          <p:nvPr/>
        </p:nvPicPr>
        <p:blipFill>
          <a:blip r:embed="rId1"/>
          <a:stretch/>
        </p:blipFill>
        <p:spPr>
          <a:xfrm>
            <a:off x="1905120" y="2133720"/>
            <a:ext cx="5900760" cy="3747960"/>
          </a:xfrm>
          <a:prstGeom prst="rect">
            <a:avLst/>
          </a:prstGeom>
          <a:ln w="0">
            <a:noFill/>
          </a:ln>
        </p:spPr>
      </p:pic>
      <p:sp>
        <p:nvSpPr>
          <p:cNvPr id="405"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09"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te of Adoption </a:t>
            </a:r>
            <a:endParaRPr b="0" lang="en-US" sz="4000" spc="-1" strike="noStrike">
              <a:solidFill>
                <a:srgbClr val="c1eeff"/>
              </a:solidFill>
              <a:latin typeface="Consolas"/>
            </a:endParaRPr>
          </a:p>
        </p:txBody>
      </p:sp>
      <p:sp>
        <p:nvSpPr>
          <p:cNvPr id="41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usion of Digital Storytelling at different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4"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5"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6"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novators . . .</a:t>
            </a:r>
            <a:endParaRPr b="0" lang="en-US" sz="4000" spc="-1" strike="noStrike">
              <a:solidFill>
                <a:srgbClr val="c1eeff"/>
              </a:solidFill>
              <a:latin typeface="Consolas"/>
            </a:endParaRPr>
          </a:p>
        </p:txBody>
      </p:sp>
      <p:sp>
        <p:nvSpPr>
          <p:cNvPr id="418" name=""/>
          <p:cNvSpPr txBox="1"/>
          <p:nvPr/>
        </p:nvSpPr>
        <p:spPr>
          <a:xfrm>
            <a:off x="914400" y="1295280"/>
            <a:ext cx="7772400" cy="4572000"/>
          </a:xfrm>
          <a:prstGeom prst="rect">
            <a:avLst/>
          </a:prstGeom>
          <a:noFill/>
          <a:ln w="0">
            <a:noFill/>
          </a:ln>
        </p:spPr>
        <p:txBody>
          <a:bodyPr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ana Atchley and Joe Lamber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ach digital storytelling workshops for filmmakers</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nd  the </a:t>
            </a:r>
            <a:r>
              <a:rPr b="0" lang="es-ES" sz="3000" spc="-1" strike="noStrike">
                <a:solidFill>
                  <a:srgbClr val="ffffff"/>
                </a:solidFill>
                <a:latin typeface="Corbel"/>
              </a:rPr>
              <a:t>San Francisco Digital Media Center (SFDMC)</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ins  organizations on digital storytelling facilitation</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aborated internationally</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Adopters . . .</a:t>
            </a:r>
            <a:endParaRPr b="0" lang="en-US" sz="4000" spc="-1" strike="noStrike">
              <a:solidFill>
                <a:srgbClr val="c1eeff"/>
              </a:solidFill>
              <a:latin typeface="Consolas"/>
            </a:endParaRPr>
          </a:p>
        </p:txBody>
      </p:sp>
      <p:sp>
        <p:nvSpPr>
          <p:cNvPr id="420" name=""/>
          <p:cNvSpPr txBox="1"/>
          <p:nvPr/>
        </p:nvSpPr>
        <p:spPr>
          <a:xfrm>
            <a:off x="914400" y="1219320"/>
            <a:ext cx="7772400" cy="54864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telling (CDS) lead the way for digital storytelling ado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2" name=""/>
          <p:cNvSpPr txBox="1"/>
          <p:nvPr/>
        </p:nvSpPr>
        <p:spPr>
          <a:xfrm>
            <a:off x="91440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unity colleges in San Francisco begin digital storytelling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pple Computer and Adobe Systems develop digital storytelling curricul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4" name=""/>
          <p:cNvSpPr txBox="1"/>
          <p:nvPr/>
        </p:nvSpPr>
        <p:spPr>
          <a:xfrm>
            <a:off x="990720" y="1142640"/>
            <a:ext cx="7772400" cy="5715000"/>
          </a:xfrm>
          <a:prstGeom prst="rect">
            <a:avLst/>
          </a:prstGeom>
          <a:noFill/>
          <a:ln w="0">
            <a:noFill/>
          </a:ln>
        </p:spPr>
        <p:txBody>
          <a:bodyPr anchor="t">
            <a:normAutofit/>
          </a:bodyPr>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ggards . . .</a:t>
            </a:r>
            <a:endParaRPr b="0" lang="en-US" sz="4000" spc="-1" strike="noStrike">
              <a:solidFill>
                <a:srgbClr val="c1eeff"/>
              </a:solidFill>
              <a:latin typeface="Consolas"/>
            </a:endParaRPr>
          </a:p>
        </p:txBody>
      </p:sp>
      <p:sp>
        <p:nvSpPr>
          <p:cNvPr id="426" name=""/>
          <p:cNvSpPr txBox="1"/>
          <p:nvPr/>
        </p:nvSpPr>
        <p:spPr>
          <a:xfrm>
            <a:off x="914400" y="13716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a:t>
            </a:r>
            <a:endParaRPr b="0" lang="en-US" sz="4000" spc="-1" strike="noStrike">
              <a:solidFill>
                <a:srgbClr val="c1eeff"/>
              </a:solidFill>
              <a:latin typeface="Consolas"/>
            </a:endParaRPr>
          </a:p>
        </p:txBody>
      </p:sp>
      <p:sp>
        <p:nvSpPr>
          <p:cNvPr id="428" name=""/>
          <p:cNvSpPr txBox="1"/>
          <p:nvPr/>
        </p:nvSpPr>
        <p:spPr>
          <a:xfrm>
            <a:off x="914400" y="1371240"/>
            <a:ext cx="7772400" cy="518148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occurs at the point at which enough individuals in a system have adopted an innovation so that the innovation’s further rate of adoption becomes self-sustaining” (Rogers, 2003, p. 344)</a:t>
            </a:r>
            <a:endParaRPr b="0" lang="en-US" sz="30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was reached for digital storytelling in 1999 when the demand for CDS annual workshops and training was requested nationally and internationally. (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30" name=""/>
          <p:cNvSpPr txBox="1"/>
          <p:nvPr/>
        </p:nvSpPr>
        <p:spPr>
          <a:xfrm>
            <a:off x="914400" y="1295280"/>
            <a:ext cx="7772400" cy="45720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enter for Digital Storytelling. (2009). The evolution of digital storytelling:</a:t>
            </a:r>
            <a:br>
              <a:rPr sz="1400"/>
            </a:br>
            <a:r>
              <a:rPr b="0" lang="en-US" sz="1400" spc="-1" strike="noStrike">
                <a:solidFill>
                  <a:srgbClr val="ffffff"/>
                </a:solidFill>
                <a:latin typeface="Corbel"/>
              </a:rPr>
              <a:t>An abbreviated history of key moments during the first sixteen years (1993-2006). Retrieved July 2, 2009, from http://www.storycenter.org/timeline.html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nnovative Teaching Concepts. (2009). Digital storytelling: The very last of the great whangdoodles [video recording]. Retrieved July 3, 2009, from http://www.todaysteacher.com/Digital_Storytelling/wangdoodle.wmv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ogers, E. (2003). Diffusion of innovations (5th ed.). New York: Free Press.</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ucker, G. (2006). First person singular: The power of digital storytelling. </a:t>
            </a:r>
            <a:r>
              <a:rPr b="0" i="1" lang="en-US" sz="1400" spc="-1" strike="noStrike">
                <a:solidFill>
                  <a:srgbClr val="ffffff"/>
                </a:solidFill>
                <a:latin typeface="Corbel"/>
              </a:rPr>
              <a:t>Screen Education, 42</a:t>
            </a:r>
            <a:r>
              <a:rPr b="0" lang="en-US" sz="1400" spc="-1" strike="noStrike">
                <a:solidFill>
                  <a:srgbClr val="ffffff"/>
                </a:solidFill>
                <a:latin typeface="Corbel"/>
              </a:rPr>
              <a:t>, 54-58.</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ikipedia. (2009). </a:t>
            </a:r>
            <a:r>
              <a:rPr b="0" i="1" lang="en-US" sz="1400" spc="-1" strike="noStrike">
                <a:solidFill>
                  <a:srgbClr val="ffffff"/>
                </a:solidFill>
                <a:latin typeface="Corbel"/>
              </a:rPr>
              <a:t>Digital storytelling. </a:t>
            </a:r>
            <a:r>
              <a:rPr b="0" lang="en-US" sz="1400" spc="-1" strike="noStrike">
                <a:solidFill>
                  <a:srgbClr val="ffffff"/>
                </a:solidFill>
                <a:latin typeface="Corbel"/>
              </a:rPr>
              <a:t>Retrieved June 25, 2009, from http://en.wikipedia.org/wiki/Digital_storytelling</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3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 Tell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extexit.com/nextexit/nextframeset.htm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storycenter.org/cookbook.htm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electronicportfolios.org/digistor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26T06:41:01Z</dcterms:modified>
  <cp:revision>68</cp:revision>
  <dc:subject/>
  <dc:title>Digital Storytelling</dc:title>
</cp:coreProperties>
</file>